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87E9-187A-4556-9FDA-AA44DA7DC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378C-419A-4181-AF5E-2ABB4B90C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03D7-8CAD-454C-A8BF-3C85A2C3D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0BC2-8FCC-40D7-BF51-7628002DB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21E4E-B903-4265-8592-15113BE6F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46943-7D6C-41A6-9203-11A3376F4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B4172-2588-414C-B7FE-C4DAC7FC0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1F3AD-0A6C-4454-9A87-62874F5A7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E7B77-2162-4FA0-90F7-E9990C972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70BCD-754B-45FE-BEBC-7E48D0BF6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2CD08-B0FB-4788-A741-723092BD3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7910-458A-4B86-8AF9-E6CC6974B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F439F-FE3B-43CE-9E79-4D9A831B7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42F43-1D13-400E-8127-2A611292F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A69A1-8323-4B4D-B768-EA61F004F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598B0-2582-4596-A226-5F7871CF4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8C123-2EBE-438D-8F52-C2C4AD7CC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B2F0-9810-487B-AF75-4D775A315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1885-F9EB-4411-8F73-BFF5E6A0B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1D1E-E8FF-4F8B-9C7E-9F0D5406B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FE71-7818-44CB-AFEF-A94DAB02E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FD5C-54D3-458F-9942-4EC5EB31C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A594-C5D0-49BA-943E-C3285817C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3520-C004-4533-A241-6776BAD86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A185A-6200-44D4-89AC-24B3615357DC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71F6D-7B76-4BE5-87EC-AC5E1A83E841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533520" y="30481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By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Gavin Worle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setting is: The Canadian Wilderness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main character is Brian. The Minor characters are Brian's Mom, Dad, The Pilot, Terry, and the pilot who rescued him right after he found the pack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Rising Action is when he had a dream that the survival pack was in the plane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climax was when he got in the plane and found the Survival Pack. And got out of it and swam back to shore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cb084"/>
                                      </p:to>
                                    </p:animClr>
                                    <p:set>
                                      <p:cBhvr>
                                        <p:cTn id="69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Resolution was when he had got all of the tools and food from the Survival Pack. And had all the food and tools he had needed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7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Theme was : survival to the finest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9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y Favorite Part was when he found the Survival Pack. And got all of the supplie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0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1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1T13:35:49Z</dcterms:created>
  <dc:creator>Windows User</dc:creator>
  <dc:description/>
  <dc:language>en-US</dc:language>
  <cp:lastModifiedBy>Windows User</cp:lastModifiedBy>
  <dcterms:modified xsi:type="dcterms:W3CDTF">2011-04-26T19:25:10Z</dcterms:modified>
  <cp:revision>8</cp:revision>
  <dc:subject/>
  <dc:title>Story Map</dc:title>
</cp:coreProperties>
</file>